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FF1-DEC7-4FD8-95E1-A642EE17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6E8-EBBC-4B88-AF76-87A87D57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80A85-6022-4D7E-A14D-A20CCFE6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94601-7D8E-4A1F-BEFB-17DD3EE4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DEAA9-A257-4E96-B26D-82993BDB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CD16C-CEEC-459E-9267-6561F581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9E12F-9B7D-437B-971B-ACBEDC63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ED4F6-3DC6-4687-87DE-B556787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989B8-57DC-4A91-B27A-F68E567F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E4E60-8015-40A7-95DF-BEA2EDB6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24074-A366-4786-B89D-AD837F55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0A921-ED28-4B34-AC6D-447DBE3D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AFF-7B7B-40CA-9E5D-484A5EA4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468E8-4008-47A5-A166-C950AA8E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E9492-BBC3-4CBC-AFBB-3D6FCFA1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2AF50-20FD-4792-8908-D3289BA1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9077A-ECF1-404E-B6D5-A384B33E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1F366-9667-4F38-A826-160C8858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25674-BFE4-4AA8-9B26-7B49E6EE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654CF-3E4D-4B45-B1CA-96040D01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9C864-734A-4E4E-A17D-63F41F65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D1F36-AA83-472C-B613-C7D7F1EB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ACFC4-23AA-4C36-8230-C445A4C0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DDF-7046-46BD-8714-7DD191D5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2E194-BE30-427A-9CBE-66A02F18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73E08-74A4-4651-8653-4494F1ED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6F8D0-0371-472E-B35C-06B60D49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C253C-C3AB-4A97-BA1C-F3D5ECDC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3BBBC-31AC-4969-8333-E14F4888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3698F-97A3-4BB6-9D36-A90DA601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92936-3A54-4886-AE09-D90F3EBD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11C50-026D-486D-AA57-4DE314F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F903C-5D5E-41CA-B80D-070A0D3B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AA84D-F20B-4797-855D-E3E99152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062D-E064-4AEC-8F4F-7B5899FE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443B2-5C50-46D2-8BE0-BD6C7D65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CDFF7-53F5-4469-952A-B75E6CA6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27D92-04EE-4B82-AB98-5D95C54C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811D0-8D18-42C4-B999-9E2624E6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19D58-370D-4C0D-9951-F705C8D3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D815D-CE17-442E-823A-5628123F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DCDD5-B22B-46FC-AEC2-E772F0BB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D56FB-1893-4DDA-8B59-ED213071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FF401-A9CE-4A3E-A22E-7E50E952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51189-E552-46B3-BBEA-74428851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0D56-5EC7-463F-99CE-475BC22A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0A0CC-CEDA-4C69-A9C4-2CE46E0B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15252-CBD6-4169-8C85-659F0BEE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E7129-D2B0-4CAF-ADB9-CF477829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68CE8-6A90-4A78-A5E1-CF16BE16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41FF1-9F99-417B-B308-4E08E12A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93FD-10BE-434C-95CC-8039C79B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8545-50BC-433D-B591-6D556460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E426-15C3-4E8C-A73F-5041E6EC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31ED-13B9-4FA2-AE5E-5003BA66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B5C7-2576-4B6F-8897-712596C2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223-C2DF-4832-8B26-2D368482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F030-C9D6-49D5-87CD-96E5880E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AC03-AF72-4466-B35D-90AEA93C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9DD4-08AA-4C77-A489-E458D090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5BEF-F296-4767-9888-FA553E6A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11BB-33BF-4611-96CE-6711A63C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A2024-14D3-4BEB-8682-AA5B1800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FA1F9-3BA4-4CB3-B55F-FB7D8364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2586-4DDC-4F36-82A0-45EA7406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23D92-38BB-439A-8E81-753821BF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D7F0-96BD-422E-996A-18EFEB9E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EE1-016A-4F0F-9A39-E5C23734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E07E-40D9-487C-8833-3C79CFE2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0B47-E3E0-40B9-806E-BC198DF5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320F-A886-404A-90C8-4EAB9D80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C19E-B913-4FFC-8432-E1916BF2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D65D-E19B-4CD1-90CF-07871B33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B3FE-AB81-4C9D-BCB5-86E256AC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A9B3-2327-438D-BAF1-E6F51153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41A8E-BA0C-4B9C-881E-3D545EEF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92CCC-1090-4436-BFA0-68206C58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F54E-0306-45E8-BC49-799881B6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F7F-C07A-4C7F-AF92-20BD3783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C43A-2BD8-4B00-8ECF-147EDE3B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5F78F-9C2B-489C-BACC-DD91F4B7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CCC62-993F-4C97-8DB2-0A24A52E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74678-DB54-446E-A31F-55121B82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86DE6-F231-455E-8DB3-C340BE68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DBD62-3DCC-4896-A53D-628B031A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3C97-EC15-4338-930C-94C15EFA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8F26C-05F1-4A2D-9411-0F14BD0D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44C1-03F3-4384-92F4-BC84F070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C1A62-5DA2-498E-9AAF-9CFF41ED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C50-1C61-477A-95DA-34E883B7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777D3-3204-4170-AA45-B95FA3FD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CF75F-4523-4E8E-8A45-8788D0EE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DB306-A49C-4AF2-B9DB-96097B02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2807B-6BDB-461A-A232-2D12DF0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0846-5620-4E60-A1BD-62A7941C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8513D-A14C-4060-B4E3-55DECE4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BE426-DA48-4C8A-B560-83685DCF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E8517-0551-404A-95A1-EC2AC55A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7DAF-9BEA-4CBC-B4A2-BD743A42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186A3-4AF0-471F-9937-DA7B161A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DE0-81B9-4B29-972C-B9C5FC48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FF08-4DBE-4948-963A-94B4C3F4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F15A9-3FFA-4CF5-99CC-B0251A85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12888-2C44-4254-AF01-EDAAF1D6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7AE6B-A832-49A1-BFA6-F74FCAD6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27BD4-2965-4EBA-BED2-D253ABAF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EDD56-10B7-4539-BC2D-3502CDCD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3622C-E423-46B7-BFC1-3264EC42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6B9D8-5AEA-4B71-9141-CA98D812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C2755-AE21-4B78-9B32-87F2F592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E2675-323A-4A36-8C0D-AAEDA037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531-10C7-4B00-8576-F61D193C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60A15-3B79-4412-B31E-1E0A1FA1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9E00-6A63-458B-824A-498ABA2A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6FF2D-1D7E-402E-B67D-C58B25F1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FD378-E5B4-4E89-8747-E91C1BDF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3480-8E39-4EB0-AC0E-B4735189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95150-C389-420C-B426-1F77FD81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D40C0-C5BF-43B7-91CF-11EEDA62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577CA-33D9-41C3-BF60-8ACCD724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2559F-137C-4B7D-9B12-8DBF4ADD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D09FA-4C6E-41BE-A2EA-8E61339F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44C-0277-4910-8360-8E3945BC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30730-C944-4079-839C-3A2DE28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99E47-EE03-4999-ADB8-8A7B6045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2F191-6460-43BE-B2BF-1117A7DE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296B3-0BEF-49C3-B7DA-49C9CC13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B83FA-8276-439F-BEE0-80DF4365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ECAA1-A8FA-4EC3-B061-B02C57FB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E9419-AF55-4B07-8EE8-4AD4E5AC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D5E83-0F72-4001-88C3-C1E79436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6CEF4-BA79-4242-A258-B07355E0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48E37-A58E-4A49-8CEF-0EF71896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475-152D-47CB-96AA-A10409C5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6ECB9-4A2C-4527-A8CF-A1BE79C2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6D16B-EF3E-4AFD-8541-42F7A02E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CFFEA-5914-4E06-B044-955BB959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F634D-78C3-44C0-9DDD-4BD7CC0A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051F5-7D3C-4851-AE14-DF3594C7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42AC5-5A24-45E2-BFD7-9B71A067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010E6-2226-4A17-981C-78F5C3D9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42308-08D4-4A37-88F6-B1FD91CB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A3375-ABCD-4B50-89C5-9FD0B72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123B3-6A4F-4C53-A374-3EEB4D72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640F-10C0-4A32-A6D5-1E3E55779C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199F-E723-4589-B3AE-1F618460752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32D3-DA6C-429E-9F14-4F0B61A033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FE1C-0535-49EA-88BD-890148DB97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F434-95FF-434F-AC4D-61F496C2935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AA21-175D-4EB8-B07E-3545BA8395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E911-F142-477F-B094-8C08F08B046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07B4-292F-478A-8EE8-5D02507D586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BE69-B858-4F3C-8E29-9CA455B84B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E650-3D76-41D9-8721-FF7713C6E1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37ED-BEFA-4C3C-8D41-FB839CE1ED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456C-AC58-410E-8CBF-149D61864D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39 Tak ako jeleň k žriedlu vô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ako jeleň k žriedlu vô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náhli deň čo d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duša moja po teb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ane, prahne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únavná tá žitia pú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noho na nej strá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ám ma, Otče, doviesť ráč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ž pred svoj Majestá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mútok dušu zaplav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v teba dúfať smie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vojej, Pane,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život zver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vekov nech je navek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šetkom stvore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Otec, Syn i Svätý Du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ďačne chválený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5T15:36:51Z</dcterms:modified>
  <cp:revision>21</cp:revision>
  <dc:subject/>
  <dc:title>Je veľký náš Pán, on slávy je Kráľ Nech do všetkých strán  spev vrúcnych znie chvál.</dc:title>
</cp:coreProperties>
</file>